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D50E2B-DB0E-42AA-909D-865A90A489A9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78410E-E9E5-4965-8751-47B01E252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7A8737-F320-4440-8BA3-6335660C7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CBE89B-99CE-4839-BF6B-E97E6A573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28331E-90C0-49E4-9D31-7D290A834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3084BC-3A16-48EF-97F4-C6F0D5037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BFB54E-7881-460D-9EB5-6DB92A18A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974846-8E3D-470A-8D66-834C3BBFA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BE70C1-ABC4-4C1E-8287-C28B91B4B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059576-DE80-44DC-A109-21D1EFC4F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C4007D-F7E0-4798-AD96-A9E2168BB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0DF1-A2E5-44F8-81A6-AED13AFE0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0F8A-B9AB-4060-8DE2-99731DCD131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337C3-6206-42FD-9C64-6B6F9309378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49FD4-C5D3-4C01-9472-F96562D0DD5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620C6-F283-47C5-BB45-1AC2D99C33C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802EB-316B-4134-B555-0E95E1B99BE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5E872-B70C-47AF-8DD2-C15F5D26153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1B53B-952E-4243-9D09-86DC34682A1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CF501-C747-4765-B1EC-44FD1EE0A81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FD3A3-5C82-4F92-BEBE-2DC158DAB16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C410B-BF93-4DEE-9D61-28210659904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CB5B07-2CB4-4F22-B252-EA2B01183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E10E-F219-4DA3-88AA-03A4C65CF54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94082E-4179-4E79-B306-CC147178C2E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9F2F6A-202F-4DDE-A7E8-9964BE079BD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6D1E98-12C0-4603-90BD-60C84F69F4C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BFE841-8CD5-4442-9D46-304F2481247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108CF2-6CE8-462D-AB43-3CC3D44A0A4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EE6652-AA73-4F0E-B130-70DE89C674D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0C8E36-AECC-458C-A4B9-306F67BC95A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2115E-D755-48E4-BB96-5D7F2625AD5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AE33B9-6004-43FD-8C16-D93C093A2C8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7D0C93-D6FA-4BED-A21E-4C6FFF1FB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E3ED-30CE-4F77-A3DD-62E1D7A8EEF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A43E8D-8233-4EDB-A56B-728A60A7472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1147F6-1825-4C2A-94D4-0BE03E9F863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3780E-FC9F-41C5-A8E8-47868B872DA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E9F2B8-2154-4C8C-88CB-F7E037DC8AD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C48999-4F51-4142-9162-286B811A113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01792-CF81-4187-9E57-3B8E119E14B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FF86F-BAD0-43DD-A623-B6164F3A117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137572-BAD0-4094-AE20-09AC0D90D38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90EB35-A926-45AC-BB12-3D6FE7724B7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DCF00-7447-48F2-9D7D-1EE5B9557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33A1F-D91B-4B7A-9502-82EA8074E9F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5CA992-8028-43C0-AB09-14025E0BF23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A068F-D724-4C5B-914F-988CEE47838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1F809A-FD6B-431E-9D0E-31C30903215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1E013-313F-4703-A0AB-AEEA8645CF7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A3553-4950-4F11-AD70-6AFAD0E2D7B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74C56-54FB-4C5F-B4F4-30C6C6A2BB8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0E1AA-476A-4042-BCEC-CB67FB6AE34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650D4-F3FE-45FE-812D-5E754056917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CCA4F-BF75-4684-A233-CC7AA26CA81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2CFE5-6622-4BAF-AA44-C282777042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35985-C2CB-46ED-A425-3759609A014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32A51-DC06-410E-BC7A-6660EC5A6FB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4D725-6AEF-424E-BE15-33EF9EBEB60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17918-25CE-4756-AC44-5B4C7221DE7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83AC9-5A83-4EAF-AEEE-509BA26A9DE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C7701-ED6A-439A-B84B-B0982898B49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A59EC6-E8C4-495C-B6AB-48B75A226F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A1A3C-555D-4DF3-9969-AD8B6756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CB2CBA-A42A-4583-B522-E06BA7B5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1EFA5-D2B3-4D4B-ADA6-A6476D3C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E09597-FCB7-4628-B4FD-6D25FD41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ACB8A-33A0-4692-8D59-9DF8E88AE8F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B7558-A839-44B5-A894-06B13D01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BE944-E5E8-4CCB-BC7B-37904D59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33F67-B059-4E28-9A5F-91F60ED4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0E5D5-3FAD-4F64-839B-AA4A945A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9D40DB-32D4-408F-8CE8-5B9BD11E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B9C3E-45F8-4428-8C96-E8FEC486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45E3E-AE53-4793-97B4-0C559664ED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7F563-7526-466B-AC8B-23DC5D4C3C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64A4B-09F6-4FAD-8C93-5C614C1F71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FF86-4338-4CEF-8D11-EE83DB53BB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497F-11C2-4D6E-8513-7D1AAFFF2F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A3CD-4013-4DA8-A587-A76A4AD04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44C5-52FD-4207-9025-350AC9B214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AEED-6FEB-4D61-B59F-B2FCB7AE6C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B0E7-6CB0-432C-961C-51C5688E28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5BBA2-CACE-4C67-BFB3-74E4A771FC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B77C-CA02-4325-BDCD-815082E712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4FA-8D33-417B-9C0C-4A70D68801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425E-FCA7-440D-A1E7-9DE97F32DD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32E-0DCC-4964-8B38-5E92A5EABD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61D-87DA-45DD-A267-CF044502DE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67A-C737-4077-B412-E0284D2266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EB55-C441-42FD-AD59-3E849CBBF0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C4A-DA03-4310-8DDC-EF31787D3A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0B7-EE4B-4349-B732-E0E09450C0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756B-A8B4-4FC3-84ED-89559266A7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97C-B490-4AEF-9832-DFC2656B81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D60-BDA1-4311-96CF-FFDEB095CC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3F2-4423-4215-B438-B843B24FAA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F69-C76C-4663-BA15-4E2A1D3F9D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7DBE6-FD54-4BB9-9618-8016275910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0F52F-3B9F-4639-88BF-F9A510EA54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0302F-5ECB-4677-8859-DAA0EA522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0363-30C9-4D23-8CD7-F1A3AF5887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1C436-57B4-4DE8-9445-F9EB3A2D3E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2FD9F-7DB9-4C89-8FB5-BE623E2DF3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B2530-4A39-428D-A925-073CCB9279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3D928-C8DF-4FC9-8436-2D8BC98EEA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97C83-AFEA-4EBB-A935-95A275B07A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2B118-5F5D-4F08-BB6A-588BDB48A0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02785-75CC-4224-87ED-E43E997C59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481C7-5981-4FFF-91B8-F9F23507E3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82245-8206-44CD-8355-FF357E713C0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3FE11-F4AE-4125-B911-B4ADE5F82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8A69-F8D1-404A-B458-7366C2A3758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85BAE-41E5-46F1-8C60-8BFFD35A63F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16225-2B1A-46C6-8E4B-1CBD6C508FB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ADA69-B70C-42CA-8EA0-5E1EAF5EFC2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732ED-B578-44F1-BDC0-B882C2F4A7D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39662-A9CA-42C8-8212-2C1112AA8C7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6FDED-A7F1-42E6-88AC-E927269930D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9BE32-78CD-453E-A5DC-988C52B2DC9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F497B-0EAD-4C1B-91BD-E9F6A9A94DC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F711D-57B4-4F28-9532-FDDDDCFAA25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43BFA-89E8-4467-93DA-28FB8E530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2888-A6F1-4E25-A93D-D811594AD37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EB947-B438-4C5D-9955-9E7A7D36696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FD92-413D-41BD-A0EF-4067508BB89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7365-E1AD-47DE-B10C-F035E1511F6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F11E-B838-4831-AA40-F2C4369AB4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B12C-CF41-439B-9020-BC5BA62B41C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9537-91B0-4679-A9A5-C278BE6301E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9EA7-9D26-4599-A958-2052FA108CE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28CE-402F-4555-BAB4-F5B6F69D052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8ACE-6932-40CA-9416-0DE74484193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CD39-6D03-45FB-BB1E-A620A15F7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ECA4-9DA4-4335-B12E-8739C1600D7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F943-B1C2-4569-89A9-68F5C672A3D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A242-49F7-4794-BB1D-CC59EF841EA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5176-9DAB-4A3E-88E8-644BA17D974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A7A874-C5CA-4AE0-ACB0-7A9077179F6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4D155B-FB5D-4CDF-93C0-4FCD48904D4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D63506-14F4-4C01-81FF-485F352B590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528939-BF1C-4A21-904B-EC22A54BC82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E29695-63EB-42AD-96CE-7A399945AAD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48BFDD-21BD-416E-8268-6980874939F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F1D29B-B0FC-4FCE-A235-FB11B7947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ADBF-EC98-4B2A-BE64-08DBA0EC98A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D9B0BC-E1E6-4870-B897-3B6321A2EF3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B7B8C6-A49F-4CF4-9DFD-F351D05AED7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CBE338-171E-4FB2-B69F-057C1B70200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9371C2-82E2-4F39-B3C7-0854464819F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783504-A760-45E9-8001-65933A45250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96F24-7D8B-4F0E-BFA2-F2ABE42A36B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AC6C3-6DB3-48C0-974F-B73B57FD8A0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0BBF7-A4A2-4D06-B7B9-95A7774AC10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6686D-28E9-4DE7-A30E-6879DC322D9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1DBF5-518D-4F8A-ACED-8B6329A5E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FEFA-B19D-4156-B085-A4CE1397A60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383F9-2F32-47DE-8165-DB212B0EE08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34390-A9F1-457D-94DB-B3D54201342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DB799-4A16-43FF-B30E-529BA82322E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64EC5-6C7D-4227-A55A-215C5F88D8C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76432-E82C-4B38-BF74-2670DF74033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D0079-52ED-4B15-AEE8-EBA454B6EF0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C6C2E-B1EE-4FFE-814D-D70C306C7FB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9BD17-D0F5-44F0-9214-AC887AD26B8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48AB-BB28-4922-BA7A-04358948147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797BB-0E39-4CB9-B327-A5787C0BF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4322B2-169C-4D9B-91A4-DDC669DC820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A09D06-1665-4679-919D-87C3CDBD572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B2D4A1-170B-404F-88C7-A7584F3B627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3997A9-B4DE-4534-85C0-84827DBBBF7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95A4A6-182B-4F46-A5E4-E5CC576D7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09E0DD-ADA4-4E75-8DF2-406D0C53A5F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FA5DEA-7D4F-48EB-9F5D-323B4FC55F9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3A41C5-6E4E-474B-9F0D-99DFDD6EA78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FB6CF4-981B-4163-97A0-88C839244EE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B1A476-FFBF-4F47-A959-E7C657CFFFE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B4E4CA-EBD4-4DA3-9C89-2CCC32B1340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5F8628-17B9-4EE8-AB40-69D0627861C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059656-A0E8-487E-BAD5-BB5773639A0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3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Παναγιώτης Ν. Μαντάς-Κατσαντώνη Σπυριδούλα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4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Ενότητας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1.Ένταξη και Ενσωμάτωση: 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2.Αντιλήψει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τάσεις και από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μαθητών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Ρόλος των εκπαιδευτικών και οι απόψεις τους για την ένταξη των μαθητών με  ΕΕΑ/ΑΝΑΠΗΡΙ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885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4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 και αντιλή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ης Γενικής Τάξης για την ένταξη μαθητ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ιδικές Μαθησιακές Ανάγκε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έσα από έρευνες.</a:t>
            </a:r>
            <a:br>
              <a:rPr sz="1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5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των μαθητώ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συμμαθητών τους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6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υ Οικογενειακού Περιβάλλοντο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μαθητών  με εεα/αναπηρίες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3-10-18T20:05:57Z</dcterms:modified>
  <cp:revision>161</cp:revision>
  <dc:subject/>
  <dc:title>Παρουσίαση του PowerPoint</dc:title>
</cp:coreProperties>
</file>